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223"/>
        <c:axId val="13027075"/>
      </c:barChart>
      <c:catAx>
        <c:axId val="232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27075"/>
        <c:crosses val="autoZero"/>
        <c:auto val="1"/>
        <c:lblAlgn val="ctr"/>
        <c:lblOffset val="100"/>
        <c:noMultiLvlLbl val="0"/>
      </c:catAx>
      <c:valAx>
        <c:axId val="13027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D06-A88A-4DDC-AE35-8E4D97E6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1CD-1B3C-4F65-8C31-C72510DC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89A-C333-4EE9-8A64-5C97030E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E01-68ED-4CA7-B780-DC07CDB2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11D-8E02-4319-BC93-2AEF8073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937-B149-40DE-9EDC-2835F7D7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D33-E4E8-463F-916F-9CB8B55A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178-BF7D-40A7-AE60-0CF889B7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240D-FC1D-4517-BC27-7B6E67F0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010-D378-485F-93DC-EBE0A478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D8D-2B95-4643-A856-67B013DE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EA2-822C-43D0-8903-1C5B590D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0B13C-9EA1-42F1-BFAB-285FA2989D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