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45291"/>
        <c:axId val="24839733"/>
      </c:barChart>
      <c:catAx>
        <c:axId val="56345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39733"/>
        <c:crosses val="autoZero"/>
        <c:auto val="1"/>
        <c:lblAlgn val="ctr"/>
        <c:lblOffset val="100"/>
        <c:noMultiLvlLbl val="0"/>
      </c:catAx>
      <c:valAx>
        <c:axId val="24839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45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D8F-CA79-4505-B94B-0323CA64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AED-F2C0-4ED0-A10E-7DB01A78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0A9-CC28-45C2-9014-32B17B82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8ED-97D1-470E-A477-3CDA9320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370-DB3D-427C-8258-31670BD9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18C-1C86-4E0F-B8D0-CE0DC109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7B5-582F-4C27-800F-4722EFEA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3DB-7036-4C52-A7F7-537CD341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51B-BD36-499C-9C53-EC8400B6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EF2-4B41-46F0-8FF7-ABB823D7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D5D-81D1-4210-98A6-758371D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18A-C123-4277-B91B-EBBA2EEF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1A506-5408-47E9-8C8E-1AC7C3F74F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