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38418"/>
        <c:axId val="70790681"/>
      </c:barChart>
      <c:catAx>
        <c:axId val="90238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90681"/>
        <c:crosses val="autoZero"/>
        <c:auto val="1"/>
        <c:lblAlgn val="ctr"/>
        <c:lblOffset val="100"/>
        <c:noMultiLvlLbl val="0"/>
      </c:catAx>
      <c:valAx>
        <c:axId val="70790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38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A36-0EBF-45FE-B78F-EF3313CA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68C-A748-41B1-8564-56E55EA1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EFA-72F2-45A2-9C98-C213F2C8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E8F-8B8B-4AB1-9F1C-9F1D4637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AB6-FE1D-4ACE-9252-61746136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E34-973F-4A69-954B-A13ACAEC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BAB-324A-402C-9CAF-AB0714F0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3CC-7A8C-436B-9120-C30D10C6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BA6-94E9-4E96-8F95-3CC612BD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12A-8A8A-4AB6-A70D-FE39A0A4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0EC-C9E4-45EF-BFEC-C23F65D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1E3-E322-4703-811D-737DD9E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BF0B1-4A17-4C77-91A5-66EE8C22F3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