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081316"/>
        <c:axId val="49667416"/>
      </c:barChart>
      <c:catAx>
        <c:axId val="290813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667416"/>
        <c:crosses val="autoZero"/>
        <c:auto val="1"/>
        <c:lblAlgn val="ctr"/>
        <c:lblOffset val="100"/>
        <c:noMultiLvlLbl val="0"/>
      </c:catAx>
      <c:valAx>
        <c:axId val="496674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813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9D55-B94B-4F0B-B1C3-FDE6398B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A328-B293-494A-92F2-82359C08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42AB-0229-47D7-B4F4-842B302D2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BC3E-A53D-46B9-858A-3FB832252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3179-C1D8-40B7-88F2-3A31C7E8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33FF-406B-4DD0-9056-D65F9CED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3312-FEEC-444F-935D-BB3B2965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2059-B417-4348-A3D5-288E4AF9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0548-8089-48A1-B317-B683B8EC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3FFB-ADC2-475B-9C6E-4258F566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803D-5D4D-412A-A8AD-66326F13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FE62-D162-4EA0-9E63-955BD39C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C83D32-FBC3-4BC5-8E43-864D4C0390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