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35136"/>
        <c:axId val="15035156"/>
      </c:barChart>
      <c:catAx>
        <c:axId val="53635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35156"/>
        <c:crosses val="autoZero"/>
        <c:auto val="1"/>
        <c:lblAlgn val="ctr"/>
        <c:lblOffset val="100"/>
        <c:noMultiLvlLbl val="0"/>
      </c:catAx>
      <c:valAx>
        <c:axId val="15035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35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17B-408E-4316-A8EB-7A0F476F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C02-80A1-4197-8789-7CFF67BA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162-8E6B-404F-A710-C8A30E52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481-3787-4AA2-B11B-DF4D5927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C1A-4C82-409A-85D5-C0DA95CA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EA7-81A1-43D9-84FB-81A34F9B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4E3-93BA-403C-9E34-92E03411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4DE-267E-47EC-930E-68B9AAF3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C73-5708-48D1-8BB5-FD051E9D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995-2F33-43C6-A972-7F5FCACE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08C-7D15-479D-9633-C9416558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D12-7EAE-4748-AB94-78DE2844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6B355-B963-4D2E-8164-8F1B2963A8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