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76765"/>
        <c:axId val="4549638"/>
      </c:barChart>
      <c:catAx>
        <c:axId val="53976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638"/>
        <c:crosses val="autoZero"/>
        <c:auto val="1"/>
        <c:lblAlgn val="ctr"/>
        <c:lblOffset val="100"/>
        <c:noMultiLvlLbl val="0"/>
      </c:catAx>
      <c:valAx>
        <c:axId val="4549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6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AE7-4E1B-469A-9296-757C8E93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AB5-1C61-47E8-8256-97C030D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C47-760F-414C-9A6E-631D0FE1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C30-D679-4D5E-85D5-3A124AA6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7E4-921E-47DC-8F2A-E14918BB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279-0D64-489A-A4F3-6B5E643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02E-90FC-44DB-8F56-1A2C76E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580-46F2-4E0A-9B31-55AACE8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DDA-82F9-47A2-858F-AC0AC84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66B-C6B2-4A59-B368-F018A99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52D-1086-4DD7-B560-2EEF97F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3C5-0FCA-4A51-8D8D-67B60133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5058-A321-41A2-AB29-8D7517B9B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