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502683"/>
        <c:axId val="42436748"/>
      </c:barChart>
      <c:catAx>
        <c:axId val="345026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36748"/>
        <c:crosses val="autoZero"/>
        <c:auto val="1"/>
        <c:lblAlgn val="ctr"/>
        <c:lblOffset val="100"/>
        <c:noMultiLvlLbl val="0"/>
      </c:catAx>
      <c:valAx>
        <c:axId val="424367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026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2601-8D82-4157-A430-4905AEE4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63AC-BA68-4807-B521-27D54A6C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CFCE-1601-47A2-B5CC-E1317F239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4B06-FFB3-4118-BBF8-92B29D372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A61B-CBB2-44DB-AEF2-3C20EC7A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74E2-7515-491A-9EA6-EAD630AD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8C82-7844-4DA5-8868-28DE08D4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6605-F576-4167-90F6-0AA99282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A0C5-558B-4CAF-9883-3F23C2FC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EA85-B810-46F5-95B8-647015D3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6FDD-4178-47D9-AFD3-74E0D371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5AAA-84B8-4873-A09F-ADC87428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1D6B7-B4B5-46DC-A867-E839FD3046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