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48453"/>
        <c:axId val="66028263"/>
      </c:barChart>
      <c:catAx>
        <c:axId val="22848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28263"/>
        <c:crosses val="autoZero"/>
        <c:auto val="1"/>
        <c:lblAlgn val="ctr"/>
        <c:lblOffset val="100"/>
        <c:noMultiLvlLbl val="0"/>
      </c:catAx>
      <c:valAx>
        <c:axId val="66028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8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F16-0C76-49F9-8DB6-2BF000A0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4DB-F782-4C2A-94B3-FA478B86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1B8-850F-4880-9A37-84CEAB8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7E6-C841-437B-A8A3-3774F8BE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AB3-1AD9-42D4-B1B6-EF54CA2F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292-BF29-472B-9F8D-94D587C7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0FA-A6F7-425F-88E5-50D9F336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C14-9501-4A01-9491-BB8CA3E1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F27-E390-4728-8FE2-CC1926FE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260-8343-413C-8022-28204543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0F2-9234-4391-BE05-12AB556C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2D0-5520-4800-8E99-A70E8B0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94BD4-725F-446B-B459-3418A360A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