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323912"/>
        <c:axId val="21713133"/>
      </c:barChart>
      <c:catAx>
        <c:axId val="213239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713133"/>
        <c:crosses val="autoZero"/>
        <c:auto val="1"/>
        <c:lblAlgn val="ctr"/>
        <c:lblOffset val="100"/>
        <c:noMultiLvlLbl val="0"/>
      </c:catAx>
      <c:valAx>
        <c:axId val="217131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239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A92D-B7A7-4D55-8B10-2202FBA6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3508-1022-40CC-A997-6131A990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78D8-BFC9-4D58-BC5C-20B3B307F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88D9-3791-446D-8889-7B933A846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D448-3713-498F-841F-2F8E03B3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FCBE-0A41-4A9E-9622-2220CDFC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AE46-244D-470D-B195-FFA47C21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8892-AA10-493D-9511-A66405F3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B92B-0CBB-40C8-8FBE-F7E92390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1A80-22BC-4FF9-A424-51CC4AC0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AB1F-4D91-4622-BC6D-74421566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9E70-677A-4B46-882E-87C2FBED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D215B-A954-4A6B-ABC4-DA6F376F4F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