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25117"/>
        <c:axId val="9523822"/>
      </c:barChart>
      <c:catAx>
        <c:axId val="66625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3822"/>
        <c:crosses val="autoZero"/>
        <c:auto val="1"/>
        <c:lblAlgn val="ctr"/>
        <c:lblOffset val="100"/>
        <c:noMultiLvlLbl val="0"/>
      </c:catAx>
      <c:valAx>
        <c:axId val="9523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25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B53-D926-4FFE-834D-D92123A5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1CB-3FD5-4010-AEC9-03354618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A78-56D0-4879-A626-B17936A8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A77-A7C3-4E53-BCAE-DF7086DB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E6F-41E4-4423-8852-2E4FF3D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916-3081-4E35-99FF-31C21E2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F60-E246-4570-9FFE-6388B24C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AFA-FD98-4AC8-BA15-94BF1E52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B09-8D01-4EA7-B1A2-0EC0B6C1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650-5CB2-4C7E-A42A-57D0F47E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B17-A34D-4679-8700-FF8C3A8F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422-E912-41F9-8E54-E7DDB2E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678DA-5751-487B-8343-1499927C17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