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93914"/>
        <c:axId val="60244742"/>
      </c:barChart>
      <c:catAx>
        <c:axId val="816939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44742"/>
        <c:crosses val="autoZero"/>
        <c:auto val="1"/>
        <c:lblAlgn val="ctr"/>
        <c:lblOffset val="100"/>
        <c:noMultiLvlLbl val="0"/>
      </c:catAx>
      <c:valAx>
        <c:axId val="60244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939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697-3EC4-41C6-AD81-17129A00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A48-A5DF-480B-9DB3-F1E40BB6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55C-C5E0-47B6-8122-BEF4F57D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933A-5B59-46F4-A67C-12293B11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440-4431-4A45-AC01-DE60B631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F44-E10F-4C2A-8C2F-E3D7D7FB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AC9A-69C7-48DB-8BAD-6E9CDD4C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AC2-B76F-4515-8644-C03D9F2E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2FE-622D-4D0D-874E-AE9117F3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67D-4276-4E3C-9608-3CCF7055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0ABE-4A92-4F82-A281-471F340A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68A9-4750-4912-BA1C-3E423A0E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85E2A-5915-4A41-BB18-23097620E6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