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99194"/>
        <c:axId val="29763698"/>
      </c:barChart>
      <c:catAx>
        <c:axId val="54991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63698"/>
        <c:crosses val="autoZero"/>
        <c:auto val="1"/>
        <c:lblAlgn val="ctr"/>
        <c:lblOffset val="100"/>
        <c:noMultiLvlLbl val="0"/>
      </c:catAx>
      <c:valAx>
        <c:axId val="297636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991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CF73-CE61-4202-ADFE-1DC6243D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E873-1E47-4F75-BBC6-791A0BA1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64CF-633D-49F6-ABD2-92D36E43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180E-A5DF-4F34-80BA-B474E0F69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DC14-AD0B-4620-9033-0F644AC0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64EF-F979-4110-80D6-BA7902A1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5DC9-2FDF-4A7B-B86B-5B1D1848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8BA7-DC9D-4FE8-9D30-E5895D39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0E5E-D90A-47EE-A942-4D1B48B8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87F1-584F-4C52-89F3-C0EC104F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4F81-D571-4553-BF8B-B86EB5A8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4882-6B68-4ABA-9DF0-C6695072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DAA10-1E6D-4917-8244-63DB37A06F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