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1120"/>
        <c:axId val="98569118"/>
      </c:barChart>
      <c:catAx>
        <c:axId val="72961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9118"/>
        <c:crosses val="autoZero"/>
        <c:auto val="1"/>
        <c:lblAlgn val="ctr"/>
        <c:lblOffset val="100"/>
        <c:noMultiLvlLbl val="0"/>
      </c:catAx>
      <c:valAx>
        <c:axId val="98569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1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072-AD91-4299-BA46-BF7C7E2C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F9F-DE61-42C1-A5A2-39D6014A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C64-F8EB-41D4-965C-4652D0BA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D5F-8526-4E9A-9203-E9E5D92D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5DD-823D-4DB2-9E77-86C814C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DE9-51FD-4CE0-8128-E5C41D6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7FF-42FF-4C79-9C3A-B886048D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B67-3FA8-4789-9B4B-1B2605CA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3FE-27A0-4B7D-94A9-306EBF8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6A3-C597-44A2-B7E2-77F6B49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A28-3308-428A-8521-D18DC195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7B2-966D-49B4-BAE3-85FB749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2373-2A29-46F2-B6FA-01FD5C65A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