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065474"/>
        <c:axId val="36398643"/>
      </c:barChart>
      <c:catAx>
        <c:axId val="370654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98643"/>
        <c:crosses val="autoZero"/>
        <c:auto val="1"/>
        <c:lblAlgn val="ctr"/>
        <c:lblOffset val="100"/>
        <c:noMultiLvlLbl val="0"/>
      </c:catAx>
      <c:valAx>
        <c:axId val="363986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0654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9B6D-9A2C-4EBF-A826-9D57A5458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51F1-B5EE-4C34-8CF1-11318D0E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AC8E-4D1A-4C76-96A4-70077AC4C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868F-8CBD-4C06-B8F8-6D2999219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7CC9-E756-44A7-97D2-84E55BBE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058A-4D29-408A-8DCA-97DDB20E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8210-3E1B-42CD-A40B-575B0B11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B932-0F1E-4D4A-A9D6-3E8C1774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8317-F8F3-45E1-856D-1D84B78F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487D-AD4D-4B20-839E-74E0B018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4E7E-D1D4-41F1-BDE6-76B3AD73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06B1-7F95-4DF6-99F5-68B1F166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1A7010-8984-429F-98AF-5BBCF0D238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