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9772"/>
        <c:axId val="29213497"/>
      </c:barChart>
      <c:catAx>
        <c:axId val="8099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13497"/>
        <c:crosses val="autoZero"/>
        <c:auto val="1"/>
        <c:lblAlgn val="ctr"/>
        <c:lblOffset val="100"/>
        <c:noMultiLvlLbl val="0"/>
      </c:catAx>
      <c:valAx>
        <c:axId val="29213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9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75C-05AA-469A-868B-1064F07C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7FB-A6D2-4E9A-8334-6A2A1CBD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6D8-5846-485C-8323-00A96EA9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8EB-81A6-4B8C-A217-C8068CAD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F09-9210-4C39-B9A0-B0A30B81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A28-E161-4B44-9A2C-D965F282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B25-E626-4B22-8092-D19123C0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20A-74D4-413F-9697-D084A7F2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AB2-E2F4-4B2E-9B8B-A7FB9C90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D5C-590B-4DB0-9F37-9FA8A128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33D-B53F-4B2C-ABE7-7391AE91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7B6-6632-414D-8E73-394D393C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41EFF-6398-4697-8198-A6A0F2A34E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