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31516"/>
        <c:axId val="31395784"/>
      </c:barChart>
      <c:catAx>
        <c:axId val="62531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5784"/>
        <c:crosses val="autoZero"/>
        <c:auto val="1"/>
        <c:lblAlgn val="ctr"/>
        <c:lblOffset val="100"/>
        <c:noMultiLvlLbl val="0"/>
      </c:catAx>
      <c:valAx>
        <c:axId val="31395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31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659-5C9F-4386-9DA0-23FD36B4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007-A18A-45FB-84C4-CE32C0E4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07E-6B96-4194-9156-3D92F622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820-76BF-4641-AEBF-7291075B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1E8-6E3C-4558-B451-5C8E224D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9ED-56C9-411D-B4A1-A0BD64E3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517-B07F-4700-B749-AF0D8A18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3A1-CE9B-47C9-A3AA-B8571A29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9A2-B1B0-4BAB-86ED-9B2178A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1A4-3238-4150-A53B-1886A292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9BB-910B-423B-B152-B6B5217E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094-2B99-4B88-9E3E-7F41BB57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43C4F-8569-405E-930A-CA7A42B4E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