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47963"/>
        <c:axId val="45832894"/>
      </c:barChart>
      <c:catAx>
        <c:axId val="54747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32894"/>
        <c:crosses val="autoZero"/>
        <c:auto val="1"/>
        <c:lblAlgn val="ctr"/>
        <c:lblOffset val="100"/>
        <c:noMultiLvlLbl val="0"/>
      </c:catAx>
      <c:valAx>
        <c:axId val="45832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47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D71-1340-4C20-9DBD-DE42F52C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CF8-0F2C-4DE8-A038-192923A4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2C9-A12E-4809-A9F6-88ED7C0F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BFA-C5EF-4564-941D-B0D1B171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D64-16AE-442E-80BE-8C64711A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A4F-3320-4D3A-AC99-13359ED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76D-61B5-43F3-BDF4-8CA08B6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BA2-4DCF-470F-92BB-DA49BE8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8E0-9052-40FF-9F73-8FBFD83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25F-FA01-4AD1-9DFD-B865E13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1FC-C0C3-403E-A9F3-7D7F64B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79A-3C5D-46B5-8AFB-2555F14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E7790-43BE-4076-9235-990E6E59D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