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3809"/>
        <c:axId val="3309107"/>
      </c:barChart>
      <c:catAx>
        <c:axId val="3943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9107"/>
        <c:crosses val="autoZero"/>
        <c:auto val="1"/>
        <c:lblAlgn val="ctr"/>
        <c:lblOffset val="100"/>
        <c:noMultiLvlLbl val="0"/>
      </c:catAx>
      <c:valAx>
        <c:axId val="3309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3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083-C941-4C39-B3C5-866F32F1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0D2-F1A9-4D74-B1CC-BA9B8093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374-98D3-4114-9792-A3E25E8F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277-E297-490D-8EEA-0F559706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B41-538E-4AC6-A20C-DAA03CAD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CA2-FD5C-41A8-B913-B1E9010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28B-8B0B-43A5-95F8-B9A2DA4D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818-F77D-4CC9-80CC-2EB1AB26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5E8-E268-45DC-8478-B5CFF611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231-B9E5-41C1-98AD-874890C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673-9C3C-45EF-B46F-B77647AD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756-85EE-4BDF-8D31-A580E6F4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74D6B-F1C7-4F2B-A712-6EF2746E40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