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42710"/>
        <c:axId val="41207779"/>
      </c:barChart>
      <c:catAx>
        <c:axId val="90442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07779"/>
        <c:crosses val="autoZero"/>
        <c:auto val="1"/>
        <c:lblAlgn val="ctr"/>
        <c:lblOffset val="100"/>
        <c:noMultiLvlLbl val="0"/>
      </c:catAx>
      <c:valAx>
        <c:axId val="41207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42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63C-94F9-4AB0-8C7F-E5DFCD0D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706-9248-4000-92B1-BE0C4F58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9AD-B72B-4810-A09D-D6CA8122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057-ADE8-411A-AEE7-5491F9EA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994-63BC-4616-B45C-DC7D5EC6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695-3139-4CA0-B145-59F53DC6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F5C-F08F-4D6E-9632-EDDD6B95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BF4-0EDD-44CB-AA3B-D2824291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1E8-965C-4861-A451-5906EC5D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40D-70EA-46DC-B86F-5E01A8BA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986-4937-439C-9A16-548D7018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3C0-C3E4-4DF3-A688-469A06EF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7DAF8-DC4F-4748-A020-43D16E386A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