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7714"/>
        <c:axId val="30911539"/>
      </c:barChart>
      <c:catAx>
        <c:axId val="9327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1539"/>
        <c:crosses val="autoZero"/>
        <c:auto val="1"/>
        <c:lblAlgn val="ctr"/>
        <c:lblOffset val="100"/>
        <c:noMultiLvlLbl val="0"/>
      </c:catAx>
      <c:valAx>
        <c:axId val="30911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7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628-19C3-478A-AD30-F18C081D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749-6FA5-407B-9FE4-9C55CEB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2C4-91BC-4814-B41F-2BECD31B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AB7-95E2-4B64-BB73-DA12C5D9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BA1-844B-4ED9-980A-0370CD75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2D8-3DE5-4083-A4B1-9541605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7D8-C6A3-42AD-8054-A563D305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E62-6B03-458E-BC23-CF58E19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246-AD10-4241-8BDD-63E95D7B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F53-BC3E-4E1E-8ACE-DA007C00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6EF-3580-4480-9761-407ACFDE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365-C2C5-4AC2-AFEC-B0FC43D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B6F6A-E939-4F60-BE58-D3A26FC37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