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50710"/>
        <c:axId val="71893513"/>
      </c:barChart>
      <c:catAx>
        <c:axId val="74650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93513"/>
        <c:crosses val="autoZero"/>
        <c:auto val="1"/>
        <c:lblAlgn val="ctr"/>
        <c:lblOffset val="100"/>
        <c:noMultiLvlLbl val="0"/>
      </c:catAx>
      <c:valAx>
        <c:axId val="71893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0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10A-B6AC-4249-B61E-84E04D0D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3DE-79F8-48E7-9E85-F4549A6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06F-D28A-4F69-9FB1-59A0B913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C89-FE19-454C-B116-599BCB29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E8B-3E21-4291-8539-F76A3FBF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41B-3FF3-423B-94D9-84AB9C1B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B5B-1213-4A65-B3FF-5626BDA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B39-2AB8-4FDD-A7A8-792ADB56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42D-C112-4D16-8E5A-AD44DEF5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79C-DED5-4ACB-9515-EB62D67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E59-9743-409A-9D24-CF33625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836-2EC0-47FD-B743-96EC3CB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60C20-66EF-44B1-842F-1F9DF7EB3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