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35074"/>
        <c:axId val="98447959"/>
      </c:barChart>
      <c:catAx>
        <c:axId val="79435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47959"/>
        <c:crosses val="autoZero"/>
        <c:auto val="1"/>
        <c:lblAlgn val="ctr"/>
        <c:lblOffset val="100"/>
        <c:noMultiLvlLbl val="0"/>
      </c:catAx>
      <c:valAx>
        <c:axId val="98447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35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A1F-9550-4697-BC17-43827276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9A1-453D-4DCB-9894-5D8F4F7F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D9A-6D7C-41CB-885A-F483A527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34F-ED6A-41C5-BBF1-14C5BECF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4D7-C689-4B36-9EFC-7B5FD8F9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3F3-D39F-438F-B201-8F6B9722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411-1AC5-449D-977A-7F940B1F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48D-353A-4770-8B62-F7FB7878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521-51E7-4676-9C6A-6F840834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D74-8C49-4EE1-A52A-56C287ED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251-D286-4B8C-A1C0-41F1A53C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385-2D4F-4345-8D03-5750A043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BDB62-7D1A-4E2D-B595-B92E7E45FC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