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63278"/>
        <c:axId val="84592277"/>
      </c:barChart>
      <c:catAx>
        <c:axId val="44963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2277"/>
        <c:crosses val="autoZero"/>
        <c:auto val="1"/>
        <c:lblAlgn val="ctr"/>
        <c:lblOffset val="100"/>
        <c:noMultiLvlLbl val="0"/>
      </c:catAx>
      <c:valAx>
        <c:axId val="84592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63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D93-965A-4391-8124-415584F7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80C-793D-42BE-A2BC-20046B2A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F68-98E5-4FC4-A187-CD77A6C5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FE8-6335-4193-82B3-D46E102A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5D2-FE86-4A56-91CF-65E6E595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6AA-8012-4866-9DB6-1BB6B28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6E7-DB7C-4792-A38A-A120CC3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191-55D4-4D82-B147-301CD67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24D-A89A-495F-827E-5DB2C616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DC6-FA8A-4328-998E-000D6A9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C3B-8521-4763-AF4F-1BF899C9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D5E-0404-4F99-AE11-B02FCA5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749C4-11CB-43F8-9EC6-F610264BDD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