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41988"/>
        <c:axId val="78323327"/>
      </c:barChart>
      <c:catAx>
        <c:axId val="42441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23327"/>
        <c:crosses val="autoZero"/>
        <c:auto val="1"/>
        <c:lblAlgn val="ctr"/>
        <c:lblOffset val="100"/>
        <c:noMultiLvlLbl val="0"/>
      </c:catAx>
      <c:valAx>
        <c:axId val="78323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41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9CF-0345-442B-8DC6-18A5FC2B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45C-999F-4F6E-9132-E067B57C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04C-A384-4BF1-82FC-41B5BB9F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C39-2E71-4E69-87EB-06B1078C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F31-93BE-45EC-A435-1A05676D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0B4-F37B-4405-BC5C-35FA5CA7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832-82A8-4277-9B92-78DEDA4C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68C-8F17-4139-8EB4-618D644D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7B6-EE8E-4673-84DE-B65F8826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812-FDA3-4277-922B-8EF9E743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AA9-B974-46B5-90FF-8D06B7A5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025-3D67-47FB-A2D0-002DA7D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8CA4E-2F4F-4674-B52F-D51F77F2DB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