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4501"/>
        <c:axId val="38962586"/>
      </c:barChart>
      <c:catAx>
        <c:axId val="1444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62586"/>
        <c:crosses val="autoZero"/>
        <c:auto val="1"/>
        <c:lblAlgn val="ctr"/>
        <c:lblOffset val="100"/>
        <c:noMultiLvlLbl val="0"/>
      </c:catAx>
      <c:valAx>
        <c:axId val="38962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4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670-D5EA-424E-AF0C-6BFC2D49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A59-8C91-4698-AE22-6D965326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091-8680-49CE-BADA-A8DC1375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456-56C4-4892-8A83-78C99AD8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EAC-F67E-4293-9BD7-B012FDEE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F4D-EEF6-4850-8A96-8A99E9C7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451-C64B-44FD-98D3-36373F93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578-4BD0-4DCD-85C9-EBC26137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759-50EB-4043-B3D0-962166CD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AAE-F7C0-4E87-BAFA-8FAE1CC1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24F-1661-4974-9D96-31CF8CC2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449-A61D-48E8-AA61-FD43F631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C3352-775C-43D5-AC4F-55ADFC24FF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