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56897"/>
        <c:axId val="80697064"/>
      </c:barChart>
      <c:catAx>
        <c:axId val="21756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97064"/>
        <c:crosses val="autoZero"/>
        <c:auto val="1"/>
        <c:lblAlgn val="ctr"/>
        <c:lblOffset val="100"/>
        <c:noMultiLvlLbl val="0"/>
      </c:catAx>
      <c:valAx>
        <c:axId val="80697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56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DDA-F9AB-4DFE-B8BD-D3212398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042-D306-4CD9-97C2-87C206F4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F97-3DC3-4EB1-9F66-F88684BC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FBA-55C5-4117-85C3-9CDA31FA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A4D-FCAB-4B11-9F13-55A8C45B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A18-86F4-4712-B2E7-E5738B0D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4E4-5E8E-4AD1-B7A1-E80052DF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33F-E343-4CA8-98D2-F671DF26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792-5827-4FC7-AA7B-36FD9B04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0A3-D785-4F66-8571-08DF7587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AB8-C3C0-4767-B8E9-E0C01A63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3F3-3E14-4B96-AEDC-79C91D0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276DD-1483-4A7F-860D-4BA19B221A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