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03535"/>
        <c:axId val="82170946"/>
      </c:barChart>
      <c:catAx>
        <c:axId val="92403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70946"/>
        <c:crosses val="autoZero"/>
        <c:auto val="1"/>
        <c:lblAlgn val="ctr"/>
        <c:lblOffset val="100"/>
        <c:noMultiLvlLbl val="0"/>
      </c:catAx>
      <c:valAx>
        <c:axId val="82170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03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49B-0A05-4C70-B058-562B1E73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E7F-E199-4455-82A2-17D03807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E2C-B727-4C41-B459-C73B2BB2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A9E-CD9A-485B-BA5E-41273A30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937-F8B4-4A52-94C4-095D8068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D67-B012-479A-B9A7-10F0D9BA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46B-1683-4A30-88E0-A8185E40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63A-112C-498A-A461-FDD632FC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691-30D7-4634-8485-4D1F48A7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E99-C12F-4AA9-828A-2066F30D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EC0-E2B1-4AB3-ABBA-CF251386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5D1-55EB-4D91-9231-185F26B7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8C236-0E1D-4AC5-AB44-9C485719F3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