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213401"/>
        <c:axId val="85679484"/>
      </c:barChart>
      <c:catAx>
        <c:axId val="452134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79484"/>
        <c:crosses val="autoZero"/>
        <c:auto val="1"/>
        <c:lblAlgn val="ctr"/>
        <c:lblOffset val="100"/>
        <c:noMultiLvlLbl val="0"/>
      </c:catAx>
      <c:valAx>
        <c:axId val="856794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134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BDC0-3E57-4940-9B6B-89F0F7F93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E624-3325-4152-95BC-34F6D80F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8C13-F76E-4C97-B854-F90C4B78E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CA3D-8807-4993-938C-E42F4740D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FA00-252D-4460-BC68-4E257F1A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9DEF-904F-436D-85CB-8D381FD5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3103-F63E-4BDD-B915-B9D1DE6C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6A97-E5AC-401D-B98C-75B2BA95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BEF6-2616-4EAA-AC22-7AE1B7F4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550D-B222-4B1C-9857-D79A6150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2394-A939-4350-ACDB-715274C1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1371-F118-4FA9-BA38-7EF10ADB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763D3-4BA3-443B-BA18-C928D75D89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