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84655"/>
        <c:axId val="40210091"/>
      </c:barChart>
      <c:catAx>
        <c:axId val="26184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10091"/>
        <c:crosses val="autoZero"/>
        <c:auto val="1"/>
        <c:lblAlgn val="ctr"/>
        <c:lblOffset val="100"/>
        <c:noMultiLvlLbl val="0"/>
      </c:catAx>
      <c:valAx>
        <c:axId val="40210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84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0477-EC14-441E-82BC-E2AE6E43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743C-EEB1-495A-9EBE-0AD0D8C2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702-A413-4805-85B5-17CF09E9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39A5-C63D-4084-B233-2920371E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189-64D1-41C0-A226-7BB86D38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268-F274-401B-9008-E0C392E7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F6F-7D8F-4A9B-AD77-099656F4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9DF-BC9D-44BB-9615-2DB63F2A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B163-400C-42F1-AD9F-6A06B746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827-9A08-4741-97E9-DD90DAC9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502-05E8-4444-A779-DF4826A3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E6A-C210-42D0-B490-AC398693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60A7C-E2F9-4CE6-A858-FE84A7DA94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