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78745"/>
        <c:axId val="66493990"/>
      </c:barChart>
      <c:catAx>
        <c:axId val="28578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93990"/>
        <c:crosses val="autoZero"/>
        <c:auto val="1"/>
        <c:lblAlgn val="ctr"/>
        <c:lblOffset val="100"/>
        <c:noMultiLvlLbl val="0"/>
      </c:catAx>
      <c:valAx>
        <c:axId val="66493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8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7C1-3428-4815-B6F3-66B691DD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461-15C0-4AD6-93C8-289DCC4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6FE-8550-46F0-837B-4BE916C2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07E-188B-489A-807C-79B9571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59-5E73-4A21-B54D-D39A2EE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5E4-CF5B-492C-96D1-D4FC9BF4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E4E-7C91-4634-BE19-5E905AC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D58-1C45-4163-A518-6A3F1229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4DB-C083-450A-8CB4-7EE7A2C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DF2-0504-485C-B0A6-D267588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3D1-F71D-4637-9671-3606BAD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7EB-93A6-4B84-BF39-EEF0693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6035-A996-4D0F-A1C6-A34EC4569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