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28072"/>
        <c:axId val="50690946"/>
      </c:barChart>
      <c:catAx>
        <c:axId val="31528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0946"/>
        <c:crosses val="autoZero"/>
        <c:auto val="1"/>
        <c:lblAlgn val="ctr"/>
        <c:lblOffset val="100"/>
        <c:noMultiLvlLbl val="0"/>
      </c:catAx>
      <c:valAx>
        <c:axId val="50690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28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80-032F-498D-B673-755131C3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65E-10D9-4A49-94D0-DDB024C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E10-F011-4EC9-A308-C66A01AE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128-6519-4D9B-AC28-7DB19D99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FA9-B72E-4742-A740-C08351A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D19-3767-4DAB-AFAE-C845F028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398-09B3-4C32-9660-4476042D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A01-A2B6-4895-A0D4-787745A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CC2-C6E4-4EDB-BEAE-EB2EC3F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DCE-7226-45F2-8637-6665B51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59C-FE8B-4FD1-9967-9CED581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A80-342B-4773-98E0-0D2D730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1644D-9EA9-4CD5-BFFF-7D2EE48EF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