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92732"/>
        <c:axId val="81274337"/>
      </c:barChart>
      <c:catAx>
        <c:axId val="2799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74337"/>
        <c:crosses val="autoZero"/>
        <c:auto val="1"/>
        <c:lblAlgn val="ctr"/>
        <c:lblOffset val="100"/>
        <c:noMultiLvlLbl val="0"/>
      </c:catAx>
      <c:valAx>
        <c:axId val="81274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E7B-3E5E-40FD-B457-08619F4C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54C-7A8C-4D08-9457-24FC0ABB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A32-E733-4AA4-8C48-533053AC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1E8-DF4F-46E5-B422-7D626F0C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EB3-D7A8-4E19-BFF9-E2BAD3C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35D-1CD0-4E7C-807E-F297CE0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4C2-EF1B-4A20-B0D8-0A47B156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EBA-A549-4F83-9CC0-138AE46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72F-89A7-4EB5-88F6-E37F52B6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9A1-75A3-4E07-93C0-69038CE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D01-8343-4224-B698-E4CDF1F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4E5-1B2C-4D7D-AC08-4B86CB0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C13A7-CFB2-4483-8BAA-7722B481C0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