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96116"/>
        <c:axId val="93143638"/>
      </c:barChart>
      <c:catAx>
        <c:axId val="95896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43638"/>
        <c:crosses val="autoZero"/>
        <c:auto val="1"/>
        <c:lblAlgn val="ctr"/>
        <c:lblOffset val="100"/>
        <c:noMultiLvlLbl val="0"/>
      </c:catAx>
      <c:valAx>
        <c:axId val="93143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96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F4B-D929-4ED1-BA08-A62466A5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5A8-7279-4243-A22C-32F23702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001-50CB-4866-A3F0-2B4DD1EF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B6D-83A1-4549-B0CE-3AF968DE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99F-DCEA-4A99-BD34-99D76B93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CF9-4989-4A16-8988-39FED32D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EC5-FED9-4FE7-BF15-8BA25BE9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90E-25ED-411F-A5C7-40455BDC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A00-5E55-4FB9-A306-C11EA4B3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F62-1C19-4000-822B-BABFDA1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F3C-3DFE-4F36-91E7-30CB9AE0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45F-74FB-4970-98A8-F857D021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4CC8C-3052-4ED3-AF28-FDE45BE749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