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78885"/>
        <c:axId val="59034402"/>
      </c:barChart>
      <c:catAx>
        <c:axId val="56078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34402"/>
        <c:crosses val="autoZero"/>
        <c:auto val="1"/>
        <c:lblAlgn val="ctr"/>
        <c:lblOffset val="100"/>
        <c:noMultiLvlLbl val="0"/>
      </c:catAx>
      <c:valAx>
        <c:axId val="59034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78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F3C-4E13-4B85-90AD-F47D88B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361-4A85-4C0F-8DC8-BC236AB8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EE2-9302-4192-A1D6-093A393F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EAA-F32C-44DB-BF43-BDD2ACA1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35F-62C1-4AA5-85D6-433B30C7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BE1-22DE-485A-AC7F-0716D18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08A-EBA8-4664-A850-76921A7B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0BD-0D70-4815-904B-E0E70D0B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3AA-ECF7-4713-AC01-29AD5E92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5DC-2CFF-4885-A0D2-6F8D941F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D22-F38B-4A40-ABBD-EA51F1B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D22-4F31-4E67-BD34-3BC407E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729DA-13E6-443C-AC23-9A0464C6DD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