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36347"/>
        <c:axId val="85804532"/>
      </c:barChart>
      <c:catAx>
        <c:axId val="15936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04532"/>
        <c:crosses val="autoZero"/>
        <c:auto val="1"/>
        <c:lblAlgn val="ctr"/>
        <c:lblOffset val="100"/>
        <c:noMultiLvlLbl val="0"/>
      </c:catAx>
      <c:valAx>
        <c:axId val="858045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36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B66-9362-4141-8981-9A0E5896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1EC-DF91-4CA6-BB00-108F0B3E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ABB-632C-4EFC-99EB-4E6E97B6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79A-688A-4575-9E07-54B12213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C8D-FEAC-4BA2-BF21-5A86B9A8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CD0-D77D-4A74-B39A-D218B037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A792-7A9B-4141-B4C0-76ABECA1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862-971D-45A8-A508-92C2793A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120-39CB-4185-B921-A491388D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A9C-8C4E-4543-8A85-DE7A0CD4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518-898F-46E5-85BC-77B90DDC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AFF-D5A8-4999-8904-3E5BDBA3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A7463-67F9-42DC-897C-853F6246B7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