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94887"/>
        <c:axId val="9924337"/>
      </c:barChart>
      <c:catAx>
        <c:axId val="53794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4337"/>
        <c:crosses val="autoZero"/>
        <c:auto val="1"/>
        <c:lblAlgn val="ctr"/>
        <c:lblOffset val="100"/>
        <c:noMultiLvlLbl val="0"/>
      </c:catAx>
      <c:valAx>
        <c:axId val="9924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94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EF4-22FD-44B5-B7EB-D52060B8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A4E-AFA5-496C-B594-EFE50982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CDF-C4EA-4D9C-9D69-EA5E5B0B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603-392B-41A0-8A4E-E812E856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556-2857-4CA0-86AB-A5BA3DA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BFB-1439-406F-9A10-BEF5CAC7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577-D48B-4A8A-B76E-BE0198E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429-2554-402D-9290-0A1A1032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77C-BE27-4CFD-AC05-2FD73452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057-068A-42BC-B256-D080124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55A-392A-4897-84E4-D60797A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203-1F40-451B-97BF-CD88A0B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EA73-0748-4BF2-8EFC-944268F50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