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30256"/>
        <c:axId val="61763254"/>
      </c:barChart>
      <c:catAx>
        <c:axId val="89730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63254"/>
        <c:crosses val="autoZero"/>
        <c:auto val="1"/>
        <c:lblAlgn val="ctr"/>
        <c:lblOffset val="100"/>
        <c:noMultiLvlLbl val="0"/>
      </c:catAx>
      <c:valAx>
        <c:axId val="61763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30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657-873F-4FFA-AFC9-4FA4C51B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D11-7DA2-46AA-B2F8-2981BCDC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9C6-940E-4A85-AE01-92A0CF64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60A-2A2E-4445-ABC1-DD91EDCE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0CF-CF3C-4EB2-B21B-7D6EFF5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E50-8CF5-49A0-BF9C-E278CFC3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616-F2A5-4D15-8EC8-D9C780D2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215-9A1D-4EC1-ADCB-901CDF4A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6CB-B810-4DED-AD66-2795EBBE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F9E-6A54-4F6C-A247-DD4B2BA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0CC-9F2E-469F-A277-4262457B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CDC-6720-450D-99F5-C2A9A676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89B35-66D4-47FD-922D-527E47F8E7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