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88316"/>
        <c:axId val="11331737"/>
      </c:barChart>
      <c:catAx>
        <c:axId val="469883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31737"/>
        <c:crosses val="autoZero"/>
        <c:auto val="1"/>
        <c:lblAlgn val="ctr"/>
        <c:lblOffset val="100"/>
        <c:noMultiLvlLbl val="0"/>
      </c:catAx>
      <c:valAx>
        <c:axId val="11331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83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6084-0865-41A0-B66A-DFC76650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551-EBC4-4B7D-9432-AB5838BD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8B8-49CF-4BBE-AC57-7A5B4234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F313-A3CA-43F1-ACA2-08B894DC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49C-5A82-4F6D-B5D2-FF4665FE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533-8337-49BF-BE4F-40E271E2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3D57-2127-41D8-BD62-C9D86B3E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B6A-EDD2-4AF0-81AB-04EB37B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293-1A2E-4E9F-87EC-92511126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B8E-691A-4BE2-85FD-AF440013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782-72BC-4AA5-96C5-1DEAC8C3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383-F4F0-4FBE-97FF-CED614B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4AB20-BE6B-4A76-861E-E62904A09A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