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87309"/>
        <c:axId val="35958765"/>
      </c:barChart>
      <c:catAx>
        <c:axId val="77387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58765"/>
        <c:crosses val="autoZero"/>
        <c:auto val="1"/>
        <c:lblAlgn val="ctr"/>
        <c:lblOffset val="100"/>
        <c:noMultiLvlLbl val="0"/>
      </c:catAx>
      <c:valAx>
        <c:axId val="359587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7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533-20ED-43E8-A490-969D24DE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DC0-1E5A-4710-90BF-A6863CA9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320-8B1D-4A65-A88E-044A845D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634-83D2-4D43-BA48-A58DAAFB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EBD7-5630-4D02-99D5-DD6A64A9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693-DFA3-46DC-97B2-39D7EB3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17FC-60D7-4034-AD29-5E2998EA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C459-CA3D-464C-B84D-06E91386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015-8E97-4014-9F74-76446582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257B-0D76-46D1-B196-30DDDC0D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A0DD-A63B-4D08-8EE4-A9F48AB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805-BA00-4B15-A6F3-13FB151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AC661-3654-4871-B2FF-343D7C9D52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