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05258"/>
        <c:axId val="57614184"/>
      </c:barChart>
      <c:catAx>
        <c:axId val="85705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14184"/>
        <c:crosses val="autoZero"/>
        <c:auto val="1"/>
        <c:lblAlgn val="ctr"/>
        <c:lblOffset val="100"/>
        <c:noMultiLvlLbl val="0"/>
      </c:catAx>
      <c:valAx>
        <c:axId val="57614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05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46D-2BDE-4BF6-8EAB-9505B2DD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F5D-C1AA-4A68-86CA-F1576058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478-1C17-4B73-A344-5660159F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383-E0DB-4829-85D1-06D35022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18C-2F19-4F56-8A4A-1F5F5868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FA4-7AEC-4ED0-BD5C-CAEE1686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892-97AF-48DA-950C-8656FB8C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D99-1336-490F-A373-CB8E9E35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823-BE75-48BB-86AF-00570B69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E5A-64BB-4A5B-A468-15F2A90C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174-602E-465A-8A97-2A158326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1BB-25B7-41FC-A1D0-C01901A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2ABF1-B821-489D-BDF0-8540FEBFA3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