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87678"/>
        <c:axId val="63934820"/>
      </c:barChart>
      <c:catAx>
        <c:axId val="21587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34820"/>
        <c:crosses val="autoZero"/>
        <c:auto val="1"/>
        <c:lblAlgn val="ctr"/>
        <c:lblOffset val="100"/>
        <c:noMultiLvlLbl val="0"/>
      </c:catAx>
      <c:valAx>
        <c:axId val="63934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87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2E6-B177-4AF8-A198-DA0319E7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5C3-286D-44E6-9852-DAB0601A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20C-8DC7-441E-A340-492E0F55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E71-DC4B-4C52-BEAA-E72A1744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580-D8D7-42CC-9F99-419C930A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2CD-1E82-4CEB-BFEC-006C99F5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9F1-5084-4177-8EC2-D2C25F3D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E2E-F2E4-4270-8F81-865DD367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A96-4E10-4B48-BE15-B5C56455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1D9-CB92-44B0-9ACF-60DAAD8F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C4E-0FAE-41B7-ABBC-6419254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31E-59F0-460E-966F-E9C9CDC0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505F7-85E6-45C4-9D00-29A6FE5E3C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