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80867"/>
        <c:axId val="12045511"/>
      </c:barChart>
      <c:catAx>
        <c:axId val="73180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45511"/>
        <c:crosses val="autoZero"/>
        <c:auto val="1"/>
        <c:lblAlgn val="ctr"/>
        <c:lblOffset val="100"/>
        <c:noMultiLvlLbl val="0"/>
      </c:catAx>
      <c:valAx>
        <c:axId val="12045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80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C2B-78F8-41F8-8BD7-03822D5E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1A4-9D1F-4E70-BFBF-D1F4F806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B11-18F8-419E-9244-FC96C9AA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E5A-C5AD-4761-B842-0A8AF04C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638-A813-4D6B-9528-CA8FCE54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0C1-3666-4C15-9F6D-58973E6A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5B0A-4144-4351-B8A3-CB20973D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D8F-8222-470B-AC63-BA9F6D66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783-05EA-4E81-8D7C-FBE12FAE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29B-6BDF-4FC7-8B87-056E1E62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A83-5EA4-4EA3-BA03-B5C4128E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FAF-5607-49C3-BF0E-183A23D2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EAAFB-00CD-4152-8884-64772651DE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