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668215"/>
        <c:axId val="46788113"/>
      </c:barChart>
      <c:catAx>
        <c:axId val="266682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88113"/>
        <c:crosses val="autoZero"/>
        <c:auto val="1"/>
        <c:lblAlgn val="ctr"/>
        <c:lblOffset val="100"/>
        <c:noMultiLvlLbl val="0"/>
      </c:catAx>
      <c:valAx>
        <c:axId val="46788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682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AB8-5C28-42C0-9619-A918B9C5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A046-09BB-4F58-8F1E-0AFC150F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EFB9-81B0-4694-AA31-E92D7E26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78A7-8FE4-4023-9F37-83C8FE84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2609-E633-4532-A7A7-71EC1575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F40-5DDF-4EAF-AE9E-A72F19B7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16CD-450F-4989-B7DA-B0875D74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40BE-60F4-45CE-947A-71DDFA0C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DCA-557D-4EA3-99F9-3157C368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E297-0F41-495C-8012-34090C7F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08FA-F905-4B4F-9195-72815D81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71A9-8CD5-4A63-A81D-29B4A20C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4B167-4CC2-4CDA-9370-3A0770CC65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