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21436"/>
        <c:axId val="21913538"/>
      </c:barChart>
      <c:catAx>
        <c:axId val="62121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3538"/>
        <c:crosses val="autoZero"/>
        <c:auto val="1"/>
        <c:lblAlgn val="ctr"/>
        <c:lblOffset val="100"/>
        <c:noMultiLvlLbl val="0"/>
      </c:catAx>
      <c:valAx>
        <c:axId val="21913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21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B64-1A5E-4BEB-B038-2E06FE9A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AEA-5946-48A6-9C43-40D184EA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B61-F107-42B2-B3E0-40A2CD5B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5A5-DC19-4F2D-8276-E492219A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2F8-8199-466C-932B-DF7BD6B8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A3A-D79E-4D44-80BA-83249FA5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534-93D2-4875-B2DC-EF39E9D6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330-74F7-4554-A6AA-CA487A2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A54-686E-4E35-9CF9-B9B0F791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398-3794-4E8D-A326-EFDCB0DF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5F4-C781-43F3-A2E4-3C8ABCF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D80-F259-42F3-A6C5-EE74608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43017-40EF-4880-864D-F4C52FEC51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