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864462"/>
        <c:axId val="37719931"/>
      </c:barChart>
      <c:catAx>
        <c:axId val="97864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19931"/>
        <c:crosses val="autoZero"/>
        <c:auto val="1"/>
        <c:lblAlgn val="ctr"/>
        <c:lblOffset val="100"/>
        <c:noMultiLvlLbl val="0"/>
      </c:catAx>
      <c:valAx>
        <c:axId val="37719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64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CBA-FD31-47B4-9321-F84C4BE5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1C4-2B98-4486-8D50-BF64410F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3FC-A9B1-4DA3-8056-EC7488C0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C479-DA51-472E-9349-6E7FC7D1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046-A929-47D8-AC74-70A859CA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BCC-1D21-48D5-87E9-B6CA02E6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F83D-E2E8-4C25-8526-25E53ECC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3FE-85CD-48C3-8DAA-63194358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2F6-4018-4516-9D3B-D98C8557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7AB-C07E-4896-AC09-29AC4041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8F7-4803-4CCC-BBE5-8A588865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81C-F766-4171-982C-6C5E48DB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CD8EC-BE50-4987-AE4E-C498FA58E6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