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85278"/>
        <c:axId val="20346379"/>
      </c:barChart>
      <c:catAx>
        <c:axId val="50685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46379"/>
        <c:crosses val="autoZero"/>
        <c:auto val="1"/>
        <c:lblAlgn val="ctr"/>
        <c:lblOffset val="100"/>
        <c:noMultiLvlLbl val="0"/>
      </c:catAx>
      <c:valAx>
        <c:axId val="20346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85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C00-34E6-4DDD-8929-063855BE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A14-4303-466C-8AC9-6208CBE9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9C5-818D-4852-A6C7-6C8B549B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6F9-0698-4389-B038-923197C3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728-1B2B-43D4-8387-6EA73B4A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E48-5BC1-4894-8275-07751EA2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822-8F9E-4A88-8C9F-82FE3FC0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DAE-B63A-45C1-8FD8-8C41AEB1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45C6-A032-48CB-A629-A2A980A5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1C1-2D39-4CF5-AF5D-D4A57739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CD9-79E8-4852-9A47-06032476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56C-637D-4234-B795-52F7E985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56A42-3CDE-49A4-8CC6-46088AE5B6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