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82746"/>
        <c:axId val="99519579"/>
      </c:barChart>
      <c:catAx>
        <c:axId val="71682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19579"/>
        <c:crosses val="autoZero"/>
        <c:auto val="1"/>
        <c:lblAlgn val="ctr"/>
        <c:lblOffset val="100"/>
        <c:noMultiLvlLbl val="0"/>
      </c:catAx>
      <c:valAx>
        <c:axId val="99519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82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35B-E176-49FD-8D95-1458A417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AFD-5F97-4C6B-95E0-40754D86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1FE-2B21-4D87-AB6D-180F878A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215-D804-4358-AB40-6F718DC6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866-22BE-45BD-A1C2-2F758EAA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8C0-E40A-484E-8D66-C6AD34F3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021-58A3-4929-9362-F9038B8E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062-D8F7-41D2-BF89-67611035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644-B52F-4FB7-A089-F004C4F8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19B-7FB1-419C-9788-68AF9B3B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EE3-3453-4014-967F-CD3D3F90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C99-8682-4C78-A38B-9CDFFC04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EF209-06DF-4E96-B92C-C50071D601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