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73458"/>
        <c:axId val="71809744"/>
      </c:barChart>
      <c:catAx>
        <c:axId val="23673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09744"/>
        <c:crosses val="autoZero"/>
        <c:auto val="1"/>
        <c:lblAlgn val="ctr"/>
        <c:lblOffset val="100"/>
        <c:noMultiLvlLbl val="0"/>
      </c:catAx>
      <c:valAx>
        <c:axId val="71809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3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C43-8E46-401C-B1D2-F1AE8F3B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2BF-79E6-4A85-8D41-E2F885E3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BCB-EF71-4E63-B8B2-2239CCCB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E50-E917-46DB-8E70-FCC93B38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270-DA41-4708-BE28-9BEB12B6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A8E-754F-403C-8F5C-4475E0F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93C-482D-44C8-93D2-2BAA0CCA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D7B-9C28-4905-8A15-FDA65484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8EF-329A-45D8-934F-F414A13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95C-148B-44D1-A654-A430292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864-B1D2-4BB9-AF22-E4C2A73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5A8-7E8B-453E-9CCC-647FCCE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CE4B-E315-4832-ACEA-38045DAA3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