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92230"/>
        <c:axId val="87843454"/>
      </c:barChart>
      <c:catAx>
        <c:axId val="2279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3454"/>
        <c:crosses val="autoZero"/>
        <c:auto val="1"/>
        <c:lblAlgn val="ctr"/>
        <c:lblOffset val="100"/>
        <c:noMultiLvlLbl val="0"/>
      </c:catAx>
      <c:valAx>
        <c:axId val="87843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9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562-E978-4FDA-AF0D-E1FD42FB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DDC-9777-4146-9982-B6FAE0D4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A5C-86E0-43BF-8A95-5AAC9353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711-D80F-4067-9BF6-73FBB88D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8BC-8961-449D-BE29-D711854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9D4-BE44-4C3A-B9C0-941B9078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167-7E52-43CA-BC29-F06D8AD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60F-A261-4EDC-AB38-5D0042E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7DA-6D7F-4304-B287-194D18DF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78F-547D-4FC8-86CC-2DEB6E5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EA9-9AE2-4ED0-B9E0-F934727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DE7-4220-41C3-A5EA-404C7A9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969F3-1D88-438A-B99F-53604315C1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