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854882"/>
        <c:axId val="43901039"/>
      </c:barChart>
      <c:catAx>
        <c:axId val="118548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01039"/>
        <c:crosses val="autoZero"/>
        <c:auto val="1"/>
        <c:lblAlgn val="ctr"/>
        <c:lblOffset val="100"/>
        <c:noMultiLvlLbl val="0"/>
      </c:catAx>
      <c:valAx>
        <c:axId val="43901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548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D49-3B8C-4269-9244-6FB7D3D5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06D-8C85-4454-A545-D37060FF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F2C-6076-4957-A4C0-EC10CD38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0ACF-895D-4572-BC89-24651463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759-EE4E-437A-A1E1-7E28F807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057-EA22-42C3-8B8D-BC60E68D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CF95-2D79-4FA7-A980-2EAA6501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DD28-979C-4156-9A78-D6036F97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E94F-A052-4DFD-9453-F89784E7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EB9-242C-4BA8-9826-FDE948B3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F0C-53FB-4712-8C1D-782E8BEB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956-1E81-4F85-8B76-3C1B7822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AED87-3770-4575-976A-37EF069DA7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